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06B-8EDB-41D3-9402-02805262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D35-B68A-4AE7-9C66-EA60AE99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1AE-253A-4379-8DBC-71B4CD3B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26D-25A7-45DE-A509-46FBEBCD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D26-CB2B-4734-9A57-0D6E5C38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72E-7DCF-48F4-86F7-EFBE90FF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BDE-3E5D-4715-83DA-FD30B9B2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D8E-0F62-4675-9F08-2BB01972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48B-E787-4F6E-BB6D-16D11DC7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805-97CC-4954-8D75-2ED9C19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591-8B2A-4DE0-986D-248BCAC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6FF-C30C-42AF-A9F4-40DA977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2ED07-6DEC-4BE2-A141-BBA52CDB2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360" y="274320"/>
            <a:ext cx="846144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5360" y="1298520"/>
            <a:ext cx="84614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a fixed amount of substance, 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SI unit, m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6.0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w many particles are in 3 moles,  0.5 moles and 0.001 moles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w many moles ar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.0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electrons and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01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ons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mole of a sub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43040" y="1627200"/>
            <a:ext cx="75121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ar rat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1286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there are 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C-atoms in a sample of ethane,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how many hydrogen atoms are there in that same sample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you have  4.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2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toms of hydrogen in a sample of ammonia, how many molecules of ammonia do you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ow many moles of oxygen are there in 2 moles of A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ow many moles of 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are there in 1 mole of Ga(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total number of atoms in 0.05 moles of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le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99840"/>
            <a:ext cx="8904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Find the mass of 1 molecule of ethanol, C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OH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Find the number of carbon atoms in 0.1 mole of C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OH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Which sample contains the greatest number of particles?   5g of NH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    5 g of H</a:t>
            </a:r>
            <a:r>
              <a:rPr b="0" lang="en-GB" sz="3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O      5 g of CaO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the mass of 1 molecule of ethanol, 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olar mass     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mass of 1 atom/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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 b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6.0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3366ff"/>
                </a:solidFill>
                <a:latin typeface="Calibri"/>
              </a:rPr>
              <a:t>= 46/6.02 x 10</a:t>
            </a:r>
            <a:r>
              <a:rPr b="0" lang="en-GB" sz="3200" spc="-1" strike="noStrike" baseline="30000">
                <a:solidFill>
                  <a:srgbClr val="3366ff"/>
                </a:solidFill>
                <a:latin typeface="Calibri"/>
              </a:rPr>
              <a:t>23 =   </a:t>
            </a:r>
            <a:r>
              <a:rPr b="0" lang="en-GB" sz="3200" spc="-1" strike="noStrike">
                <a:solidFill>
                  <a:srgbClr val="3366ff"/>
                </a:solidFill>
                <a:latin typeface="Calibri"/>
              </a:rPr>
              <a:t>7.65 x 10-</a:t>
            </a:r>
            <a:r>
              <a:rPr b="0" lang="en-GB" sz="3200" spc="-1" strike="noStrike" baseline="30000">
                <a:solidFill>
                  <a:srgbClr val="3366ff"/>
                </a:solidFill>
                <a:latin typeface="Calibri"/>
              </a:rPr>
              <a:t>23 </a:t>
            </a:r>
            <a:r>
              <a:rPr b="0" lang="en-GB" sz="3200" spc="-1" strike="noStrike">
                <a:solidFill>
                  <a:srgbClr val="3366ff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3520" y="1600200"/>
            <a:ext cx="842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the number of carbon atoms in 0.1 mole of 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 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number of  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moles                   molecules                  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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ultiply                    multiply by num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y  6.0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3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 atom in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Moles NH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 = 5 g/ 17.04 g =     0.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Moles of H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O  = 5g /18.01 g  =    0.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Moles CaO = 5g / 56.08 g  =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12:38:40Z</dcterms:created>
  <dc:creator>Nico Van De Casteele</dc:creator>
  <dc:description/>
  <dc:language>en-US</dc:language>
  <cp:lastModifiedBy>Nico Van De Casteele</cp:lastModifiedBy>
  <dcterms:modified xsi:type="dcterms:W3CDTF">2014-09-22T12:17:50Z</dcterms:modified>
  <cp:revision>9</cp:revision>
  <dc:subject/>
  <dc:title>The mole concept</dc:title>
</cp:coreProperties>
</file>